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4D7-56FE-42F2-9A1E-C145E81B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C07-0333-40FA-B8D1-F28345D1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B94-6BC9-4979-BFE3-EB033A69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16F-09E5-41AE-91A1-1552C639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004-D859-4FF9-9B67-B8699468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DE2-38C3-4509-BE81-82CDF225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1E2-30C6-4520-A40F-406D2833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041-5A9E-4152-A110-F6EEFD40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BB5-6164-4D8C-A835-E6B31968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512-3C68-4908-A131-753C8EE1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7C4-7403-4F8F-9106-0415CC7F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925-4961-48EF-BEE2-3E84E8B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DAEE-66B2-4329-B8C0-B4CB3FEC9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10/01/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960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recall the use –AR verbs in the 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b0f0"/>
                </a:solidFill>
                <a:latin typeface="Arial"/>
              </a:rPr>
              <a:t>TOMAR </a:t>
            </a:r>
            <a:r>
              <a:rPr b="1" i="1" lang="es-ES_tradnl" sz="3200" spc="-1" strike="noStrike" u="sng">
                <a:solidFill>
                  <a:srgbClr val="00b0f0"/>
                </a:solidFill>
                <a:uFillTx/>
                <a:latin typeface="Arial"/>
              </a:rPr>
              <a:t>QUIZ: REPASO 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jugate the following –AR ver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3581280"/>
          <a:ext cx="8381880" cy="2514600"/>
        </p:xfrm>
        <a:graphic>
          <a:graphicData uri="http://schemas.openxmlformats.org/drawingml/2006/table">
            <a:tbl>
              <a:tblPr/>
              <a:tblGrid>
                <a:gridCol w="1819080"/>
                <a:gridCol w="1976400"/>
                <a:gridCol w="2292480"/>
                <a:gridCol w="229392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Usar </a:t>
                      </a:r>
                      <a:r>
                        <a:rPr b="0" i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to u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levar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to w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Estudiar </a:t>
                      </a:r>
                      <a:r>
                        <a:rPr b="0" i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to stud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76320" y="266688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1866960" cy="161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3505320" y="2833560"/>
            <a:ext cx="1050840" cy="143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4"/>
          <a:stretch/>
        </p:blipFill>
        <p:spPr>
          <a:xfrm>
            <a:off x="6354720" y="2666880"/>
            <a:ext cx="111276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762012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6"/>
          <a:stretch/>
        </p:blipFill>
        <p:spPr>
          <a:xfrm>
            <a:off x="6858000" y="4948200"/>
            <a:ext cx="647640" cy="160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7"/>
          <a:stretch/>
        </p:blipFill>
        <p:spPr>
          <a:xfrm>
            <a:off x="4809960" y="2743200"/>
            <a:ext cx="1209960" cy="149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8"/>
          <a:stretch/>
        </p:blipFill>
        <p:spPr>
          <a:xfrm>
            <a:off x="4800600" y="4572000"/>
            <a:ext cx="1487520" cy="1547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76320" y="4297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e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752480" y="41450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200400" y="4191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ntal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876920" y="42210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l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6324480" y="4267080"/>
            <a:ext cx="106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fal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7543800" y="422100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zap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876920" y="61261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u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467480" y="55627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b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2362320" y="8380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ationary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828800" y="1447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1600200" y="1981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lo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523880" y="6126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1905120" cy="15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514600" y="1436760"/>
            <a:ext cx="1676520" cy="1306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45720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4"/>
          <a:stretch/>
        </p:blipFill>
        <p:spPr>
          <a:xfrm>
            <a:off x="6934320" y="129528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1523880" cy="1477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1523880" y="4632480"/>
            <a:ext cx="1447920" cy="1052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8"/>
          <a:stretch/>
        </p:blipFill>
        <p:spPr>
          <a:xfrm>
            <a:off x="4964040" y="4495680"/>
            <a:ext cx="1055880" cy="12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/>
          <p:cNvPicPr/>
          <p:nvPr/>
        </p:nvPicPr>
        <p:blipFill>
          <a:blip r:embed="rId9"/>
          <a:stretch/>
        </p:blipFill>
        <p:spPr>
          <a:xfrm>
            <a:off x="6553080" y="4114800"/>
            <a:ext cx="2200320" cy="1708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383040" y="28954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453400" y="28954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852800" y="2895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a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041600" y="3048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Ca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659520" y="563868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la guitar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el pi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046400" y="563868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m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f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6718680" y="5715000"/>
            <a:ext cx="21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a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buen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mal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Ma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23880" y="1371600"/>
            <a:ext cx="17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ear, to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94800" y="22860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80920" y="28195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91088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974240" y="37339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look for, to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823760" y="419112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651320" y="472428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1676160" y="51814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724040" y="55627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ish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548640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692000" y="60958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6622560" y="1371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7196400" y="182880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973560" y="2286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7020360" y="2819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7177320" y="32767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6687720" y="373392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856920" y="419112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RACTICA DE LOS VERBOS -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41:10Z</dcterms:created>
  <dc:creator>Helen Zumaeta</dc:creator>
  <dc:description/>
  <dc:language>en-US</dc:language>
  <cp:lastModifiedBy>Helen Zumaeta</cp:lastModifiedBy>
  <cp:lastPrinted>2015-09-29T14:34:45Z</cp:lastPrinted>
  <dcterms:modified xsi:type="dcterms:W3CDTF">2015-10-01T15:38:01Z</dcterms:modified>
  <cp:revision>29</cp:revision>
  <dc:subject/>
  <dc:title>Me llamo ___________ Clase 6 NH/IL La fecha es el 10 de enero del 2011</dc:title>
</cp:coreProperties>
</file>